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0040" y="1500120"/>
            <a:ext cx="8229600" cy="45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2800"/>
            </a:b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21 Бионеорганска хемија</a:t>
            </a:r>
            <a:br>
              <a:rPr sz="2800"/>
            </a:br>
            <a:br>
              <a:rPr sz="2800"/>
            </a:b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ф. др Гордана П. Радић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571680" y="1285920"/>
          <a:ext cx="8072280" cy="5072040"/>
        </p:xfrm>
        <a:graphic>
          <a:graphicData uri="http://schemas.openxmlformats.org/drawingml/2006/table">
            <a:tbl>
              <a:tblPr/>
              <a:tblGrid>
                <a:gridCol w="1346040"/>
                <a:gridCol w="1344600"/>
                <a:gridCol w="1346040"/>
                <a:gridCol w="1344600"/>
                <a:gridCol w="1346400"/>
                <a:gridCol w="134460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Ј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Ј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Ј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еарни комплекси (КБ=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71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 две везе метал-лига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е су под углом од 18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хибридиз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е их јони метала ниског оксидационог стања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u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u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еарне комплексе могу градити и неки двовалентни јони као што су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g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2"/>
          <p:cNvGraphicFramePr/>
          <p:nvPr/>
        </p:nvGraphicFramePr>
        <p:xfrm>
          <a:off x="2786040" y="4214880"/>
          <a:ext cx="2662200" cy="7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86040" y="4214880"/>
                    <a:ext cx="266220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гонално планарни комплекси (КБ=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0004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дују три везе метал-лига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 везе се налазе у једној рав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ао између веза је 1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бридиз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е их јон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g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t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2"/>
          <p:cNvGraphicFramePr/>
          <p:nvPr/>
        </p:nvGraphicFramePr>
        <p:xfrm>
          <a:off x="2428920" y="4714920"/>
          <a:ext cx="159048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8920" y="4714920"/>
                    <a:ext cx="159048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они број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аедарски комплек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но-планарни комплек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аедарски комплек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50560" y="1557360"/>
            <a:ext cx="871380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0" i="1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ибридиз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дују четири метал-лиганд ве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ао између веза је 10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8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е 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ти 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ске конфигурације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u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i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n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 тетраедарски комплекси у воденим и алкохолним растворима координују два молекула растварача и прелазе у октаедарске комплек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5"/>
          <p:cNvGraphicFramePr/>
          <p:nvPr/>
        </p:nvGraphicFramePr>
        <p:xfrm>
          <a:off x="4427640" y="4508640"/>
          <a:ext cx="2504880" cy="21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4508640"/>
                    <a:ext cx="2504880" cy="21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но-планарни комплек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42680"/>
            <a:ext cx="8229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дују четири везе метал-лиган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зе се у једној рав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ао између веза је 9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p</a:t>
            </a:r>
            <a:r>
              <a:rPr b="0" i="1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ибридиз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кве комплексе граде метали електронске конфигурације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8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t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d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i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h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+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r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+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d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u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g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u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но-планарне комплексе могу градити и земноалкални метали (берилијум, магнезијум, калцијум) као и елементи високе електронегативности као што су хлор, бром, јод и ксен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2"/>
          <p:cNvGraphicFramePr/>
          <p:nvPr/>
        </p:nvGraphicFramePr>
        <p:xfrm>
          <a:off x="3357720" y="4857840"/>
          <a:ext cx="1804680" cy="18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7720" y="4857840"/>
                    <a:ext cx="1804680" cy="18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они број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гонално-бипирамидални комплек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но-пирамидални комплек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гонално-бипирамидални комплек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79280" y="1916280"/>
            <a:ext cx="85075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 пет веза мета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 (три екваторијалне и две аксијалн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0" i="1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sp</a:t>
            </a:r>
            <a:r>
              <a:rPr b="0" i="1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sr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бридиз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еудорот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5"/>
          <p:cNvGraphicFramePr/>
          <p:nvPr/>
        </p:nvGraphicFramePr>
        <p:xfrm>
          <a:off x="4716360" y="2637000"/>
          <a:ext cx="2887920" cy="38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2637000"/>
                    <a:ext cx="2887920" cy="38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но-пирамидални комплек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857240"/>
            <a:ext cx="8229600" cy="495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дују пет веза метал-лига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2-y2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</a:t>
            </a:r>
            <a:r>
              <a:rPr b="0" i="1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sr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бридиз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5"/>
          <p:cNvGraphicFramePr/>
          <p:nvPr/>
        </p:nvGraphicFramePr>
        <p:xfrm>
          <a:off x="3419640" y="2874960"/>
          <a:ext cx="4392360" cy="28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874960"/>
                    <a:ext cx="4392360" cy="28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они број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таедарски комплек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гонално-призматични комплек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оцијација комплекса. Координациони бро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таедарски комплек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00040" y="150012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дују шест хемијских веза метал-лиган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ири везе се налазе у једној равни под углом од 9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друге две (аксијалне) су нормалне на ту раван са горње и доње стр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0" i="1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sr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</a:t>
            </a:r>
            <a:r>
              <a:rPr b="0" i="1" lang="sr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0" i="1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sr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бридиз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е и одступања од правилне октаедарске струк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и их велики број јона прелазних метала као што су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i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r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e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e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i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2"/>
          <p:cNvGraphicFramePr/>
          <p:nvPr/>
        </p:nvGraphicFramePr>
        <p:xfrm>
          <a:off x="6156360" y="4581360"/>
          <a:ext cx="1920960" cy="19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6360" y="4581360"/>
                    <a:ext cx="1920960" cy="19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гонално-призматични комплек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78596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 рениј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sr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0" i="1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sr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бридиз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2"/>
          <p:cNvGraphicFramePr/>
          <p:nvPr/>
        </p:nvGraphicFramePr>
        <p:xfrm>
          <a:off x="2928960" y="3357720"/>
          <a:ext cx="2932200" cy="202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8960" y="3357720"/>
                    <a:ext cx="2932200" cy="20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тагонално-бипирамидални и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ксагонално-пирамидални комплекси (КБ=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дују седам метал-лиганд в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2000160" y="3589200"/>
          <a:ext cx="242892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0160" y="3589200"/>
                    <a:ext cx="242892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Object 1"/>
          <p:cNvGraphicFramePr/>
          <p:nvPr/>
        </p:nvGraphicFramePr>
        <p:xfrm>
          <a:off x="2786040" y="1285920"/>
          <a:ext cx="3071880" cy="50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86040" y="1285920"/>
                    <a:ext cx="3071880" cy="50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1"/>
          <p:cNvGraphicFramePr/>
          <p:nvPr/>
        </p:nvGraphicFramePr>
        <p:xfrm>
          <a:off x="1143000" y="1714680"/>
          <a:ext cx="6723000" cy="37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14680"/>
                    <a:ext cx="6723000" cy="37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857160" y="1214280"/>
          <a:ext cx="7394760" cy="19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1214280"/>
                    <a:ext cx="7394760" cy="19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8" name="Picture 13" descr=""/>
          <p:cNvPicPr/>
          <p:nvPr/>
        </p:nvPicPr>
        <p:blipFill>
          <a:blip r:embed="rId3"/>
          <a:stretch/>
        </p:blipFill>
        <p:spPr>
          <a:xfrm>
            <a:off x="2500200" y="3508200"/>
            <a:ext cx="3571920" cy="25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 одбијања електронских облака валентних парова на геометријску структуру комплекса </a:t>
            </a:r>
            <a:br>
              <a:rPr sz="2800"/>
            </a:b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-елемен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228708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а једињ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она једињ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рганска једињења (за један атом везано више других атом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 р-елемената 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l</a:t>
            </a:r>
            <a:r>
              <a:rPr b="0" lang="sr-Latn-R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F</a:t>
            </a:r>
            <a:r>
              <a:rPr b="0" lang="sr-Latn-R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F</a:t>
            </a:r>
            <a:r>
              <a:rPr b="0" lang="sr-Latn-R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R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</a:t>
            </a:r>
            <a:r>
              <a:rPr b="0" lang="sr-Latn-R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eF</a:t>
            </a:r>
            <a:r>
              <a:rPr b="0" lang="sr-Latn-R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sr-Latn-R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</a:t>
            </a:r>
            <a:r>
              <a:rPr b="0" lang="sr-Latn-R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R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sr-Latn-R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јска структура се објашњ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844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бридиз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ја одбијања електронских облака валентних пар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hevron 3"/>
          <p:cNvSpPr/>
          <p:nvPr/>
        </p:nvSpPr>
        <p:spPr>
          <a:xfrm>
            <a:off x="0" y="3860640"/>
            <a:ext cx="3635280" cy="1872000"/>
          </a:xfrm>
          <a:custGeom>
            <a:avLst/>
            <a:gdLst>
              <a:gd name="textAreaLeft" fmla="*/ 0 w 3635280"/>
              <a:gd name="textAreaRight" fmla="*/ 3635640 w 3635280"/>
              <a:gd name="textAreaTop" fmla="*/ 0 h 1872000"/>
              <a:gd name="textAreaBottom" fmla="*/ 1872360 h 18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9" y="0"/>
                </a:lnTo>
                <a:lnTo>
                  <a:pt x="21600" y="10800"/>
                </a:lnTo>
                <a:lnTo>
                  <a:pt x="16039" y="21600"/>
                </a:lnTo>
                <a:lnTo>
                  <a:pt x="0" y="21600"/>
                </a:lnTo>
                <a:lnTo>
                  <a:pt x="5561" y="10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бодан пар – слободан п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hevron 4"/>
          <p:cNvSpPr/>
          <p:nvPr/>
        </p:nvSpPr>
        <p:spPr>
          <a:xfrm>
            <a:off x="2916360" y="3860640"/>
            <a:ext cx="3527280" cy="1872000"/>
          </a:xfrm>
          <a:custGeom>
            <a:avLst/>
            <a:gdLst>
              <a:gd name="textAreaLeft" fmla="*/ 0 w 3527280"/>
              <a:gd name="textAreaRight" fmla="*/ 3527640 w 3527280"/>
              <a:gd name="textAreaTop" fmla="*/ 0 h 1872000"/>
              <a:gd name="textAreaBottom" fmla="*/ 1872360 h 18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869" y="0"/>
                </a:lnTo>
                <a:lnTo>
                  <a:pt x="21600" y="10800"/>
                </a:lnTo>
                <a:lnTo>
                  <a:pt x="15869" y="21600"/>
                </a:lnTo>
                <a:lnTo>
                  <a:pt x="0" y="21600"/>
                </a:lnTo>
                <a:lnTo>
                  <a:pt x="5731" y="10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бодан пар – везан п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hevron 5"/>
          <p:cNvSpPr/>
          <p:nvPr/>
        </p:nvSpPr>
        <p:spPr>
          <a:xfrm>
            <a:off x="5724360" y="3860640"/>
            <a:ext cx="3419640" cy="1925640"/>
          </a:xfrm>
          <a:custGeom>
            <a:avLst/>
            <a:gdLst>
              <a:gd name="textAreaLeft" fmla="*/ 0 w 3419640"/>
              <a:gd name="textAreaRight" fmla="*/ 3420000 w 3419640"/>
              <a:gd name="textAreaTop" fmla="*/ 0 h 1925640"/>
              <a:gd name="textAreaBottom" fmla="*/ 1926000 h 192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521" y="0"/>
                </a:lnTo>
                <a:lnTo>
                  <a:pt x="21600" y="10800"/>
                </a:lnTo>
                <a:lnTo>
                  <a:pt x="15521" y="21600"/>
                </a:lnTo>
                <a:lnTo>
                  <a:pt x="0" y="21600"/>
                </a:lnTo>
                <a:lnTo>
                  <a:pt x="6079" y="10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ан пар – Везан  п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сфор-пентахлорид, 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l</a:t>
            </a:r>
            <a:r>
              <a:rPr b="0" lang="sr-Latn-R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79280" y="1773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* 5e + 5*Cl*1e</a:t>
            </a:r>
            <a:r>
              <a:rPr b="0" lang="sr-Latn-R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e</a:t>
            </a:r>
            <a:r>
              <a:rPr b="0" lang="sr-Latn-R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2 = 10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ова електр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 валентних електронских парова </a:t>
            </a:r>
            <a:r>
              <a:rPr b="0" lang="sr-R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т хемијских веза </a:t>
            </a:r>
            <a:r>
              <a:rPr b="0" lang="sr-R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игонално-пирамидалну или кавадратно пирамидалну структу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бијање електронских облака хемијских в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ољнија структура тригоналне-бипирами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ужена бипирам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ови веза су правил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3"/>
          <p:cNvGraphicFramePr/>
          <p:nvPr/>
        </p:nvGraphicFramePr>
        <p:xfrm>
          <a:off x="7236000" y="0"/>
          <a:ext cx="1908000" cy="28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6000" y="0"/>
                    <a:ext cx="1908000" cy="28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јона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sr-Latn-R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R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700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N*5e</a:t>
            </a:r>
            <a:r>
              <a:rPr b="0" lang="sr-Latn-R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+ 4H*1e</a:t>
            </a:r>
            <a:r>
              <a:rPr b="0" lang="sr-Latn-R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= 9e</a:t>
            </a:r>
            <a:r>
              <a:rPr b="0" lang="sr-Latn-RS" sz="3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(NH</a:t>
            </a:r>
            <a:r>
              <a:rPr b="0" lang="sr-Latn-R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) – 1e</a:t>
            </a:r>
            <a:r>
              <a:rPr b="0" lang="sr-Latn-R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= NH</a:t>
            </a:r>
            <a:r>
              <a:rPr b="0" lang="sr-Latn-R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sr-Latn-R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= 8 e</a:t>
            </a:r>
            <a:r>
              <a:rPr b="0" lang="sr-Latn-R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4 електронских пар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Тетраедарска или квадратно-планарна стру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Тетраедарска структура повољн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равилна стру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2"/>
          <p:cNvGraphicFramePr/>
          <p:nvPr/>
        </p:nvGraphicFramePr>
        <p:xfrm>
          <a:off x="6372360" y="4708440"/>
          <a:ext cx="2305080" cy="19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4708440"/>
                    <a:ext cx="230508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комплекса према производима дисоциј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78596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стварању комплексних једињења у води већина их дисосује на катјоне и анјоне. При дисоцијацији можемо закључити да комплексне честице могу да се јаве у обли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ог катј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ог анј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ог катјона и комплексног анј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у облику н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утралног комплек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молекула </a:t>
            </a:r>
            <a:r>
              <a:rPr b="0" lang="sr-Latn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</a:t>
            </a:r>
            <a:r>
              <a:rPr b="0" lang="sr-R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16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S*6e</a:t>
            </a:r>
            <a:r>
              <a:rPr b="0" lang="sr-Latn-R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*1e</a:t>
            </a:r>
            <a:r>
              <a:rPr b="0" lang="sr-Latn-R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Latn-R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 валентних електронских обл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ири везе и један слободан електронски п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тригоналне бипирамид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ски пар у екваторијалној рав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ски пар у аксијалном положа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2"/>
          <p:cNvGraphicFramePr/>
          <p:nvPr/>
        </p:nvGraphicFramePr>
        <p:xfrm>
          <a:off x="7451640" y="0"/>
          <a:ext cx="1692360" cy="27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1640" y="0"/>
                    <a:ext cx="169236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6840" y="1125000"/>
            <a:ext cx="843588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 правилна стру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сијалне везе су дуже у односу на екваторијал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ови веза у екваторијалној равни износе 101</a:t>
            </a:r>
            <a:r>
              <a:rPr b="0" lang="sr-R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’ уместо 120</a:t>
            </a:r>
            <a:r>
              <a:rPr b="0" lang="sr-R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ао између аксијалних веза је мањи од 180</a:t>
            </a:r>
            <a:r>
              <a:rPr b="0" lang="sr-R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износи 173</a:t>
            </a:r>
            <a:r>
              <a:rPr b="0" lang="sr-R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молекула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</a:t>
            </a:r>
            <a:r>
              <a:rPr b="0" lang="sr-Latn-R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700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S*6e</a:t>
            </a:r>
            <a:r>
              <a:rPr b="0" lang="sr-Latn-R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6F*1e</a:t>
            </a:r>
            <a:r>
              <a:rPr b="0" lang="sr-Latn-R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2e</a:t>
            </a:r>
            <a:r>
              <a:rPr b="0" lang="sr-Latn-R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 валентних електронских пар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а октаедарска стру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2"/>
          <p:cNvGraphicFramePr/>
          <p:nvPr/>
        </p:nvGraphicFramePr>
        <p:xfrm>
          <a:off x="5940360" y="4076640"/>
          <a:ext cx="2049480" cy="23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4076640"/>
                    <a:ext cx="2049480" cy="23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молекула </a:t>
            </a:r>
            <a:r>
              <a:rPr b="0" lang="sr-Latn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Latn-R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R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844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ланарна стру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глови Н-С-Н износе 117</a:t>
            </a:r>
            <a:r>
              <a:rPr b="0" lang="sr-R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4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глови између двоструко-једноструких веза С=С-Н 121</a:t>
            </a:r>
            <a:r>
              <a:rPr b="0" lang="sr-R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28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Електронски облак двоструке везе се понаша слично облаку слободног електронског п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2"/>
          <p:cNvGraphicFramePr/>
          <p:nvPr/>
        </p:nvGraphicFramePr>
        <p:xfrm>
          <a:off x="5364000" y="5084640"/>
          <a:ext cx="2521080" cy="15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5084640"/>
                    <a:ext cx="2521080" cy="15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молекула </a:t>
            </a:r>
            <a:r>
              <a:rPr b="0" lang="sr-Latn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Latn-R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sr-Latn-R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50560" y="2060280"/>
            <a:ext cx="84358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арна струк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егативни атоми флура </a:t>
            </a:r>
            <a:r>
              <a:rPr b="0" lang="sr-R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аче одбијање електронских облака </a:t>
            </a:r>
            <a:r>
              <a:rPr b="0" lang="sr-R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лака и електронских облака везе С-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ови 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-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носе 1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r>
              <a:rPr b="0" lang="sr-R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ови између двоструко-једноструких веза С=С-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R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2"/>
          <p:cNvGraphicFramePr/>
          <p:nvPr/>
        </p:nvGraphicFramePr>
        <p:xfrm>
          <a:off x="3635280" y="5013360"/>
          <a:ext cx="3618000" cy="16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5013360"/>
                    <a:ext cx="361800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и катј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857240"/>
            <a:ext cx="8229600" cy="495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 могу дисосоват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и катјон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једноставни анј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(NH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 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(NH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+      NO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(H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(H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+      3Cl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(en)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(en)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+      SO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1203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и анј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71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 могу дисосовати на једноставни катјон и комплексни анј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gI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 →  2K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 [HgI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Fe(CN)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 →  3K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 [Fe(CN)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Fe(CN)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]  →  2N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 [Fe(CN)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]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и катјон и комплексни анј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71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 код којих су катјон и анјон у облику комплексне чест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 два централна метална јона и две координационе сфе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Pt(N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[PtCl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 [Pt(N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 [PtCl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трални молеку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42680"/>
            <a:ext cx="8229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а једињења која садрже само координациону сферу а не садрже спољашњу сфер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ДИСОСУЈУ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Fe(CO)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  →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 реакције дисоциј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такарбонилгвожђ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Ni(CO)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  →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 реакције дисоциј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акарбонилник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јска структура комплек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42680"/>
            <a:ext cx="8229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јска структура комплекса зависи од особина централног металног јона и лиган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особина централног металног јона најважније су: електронска конфигурација, радијус, енергија стабилизације, кисело-базне особине и тврдо-меке особ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особина лиганада најважније су: комплексирајућа способност која зависи од наелектрисања, електронегативно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норских атом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ону способност централног металног јона изражавамо КООРДИНАЦИОНИМ БРОЈЕМ (КБ) који је једнак броју монодентатних лиганада непосредно везаних за централни јон мет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L</a:t>
            </a:r>
            <a:r>
              <a:rPr b="0" lang="en-US" sz="8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8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z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141720" y="3962520"/>
            <a:ext cx="602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ДИНАЦИОН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дентатних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ад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аних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н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Б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, 3, 4, 5, 6, 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Straight Arrow Connector 6"/>
          <p:cNvCxnSpPr/>
          <p:nvPr/>
        </p:nvCxnSpPr>
        <p:spPr>
          <a:xfrm flipH="1" flipV="1">
            <a:off x="4214520" y="2999880"/>
            <a:ext cx="429120" cy="9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Гордана Радић</cp:lastModifiedBy>
  <dcterms:modified xsi:type="dcterms:W3CDTF">2018-08-25T10:36:18Z</dcterms:modified>
  <cp:revision>114</cp:revision>
  <dc:subject/>
  <dc:title>Slide 1</dc:title>
</cp:coreProperties>
</file>